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C4BF-5479-4529-A674-96173C29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DF16-4529-4268-A76E-BBD6B80C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AF5C-A30F-4A43-87ED-EFEDB76BC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6537-66E7-436E-A44D-E1B3B408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FF0A-42CA-4423-9ADF-1C9506E1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5482-51A2-46C8-A6B4-A2C0EA9C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7F55-078C-4A3E-BB5B-580D3AA7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7E02-F97B-4307-8579-99719803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7320-C51C-4B9B-99C6-65EDF9F6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EE96-D43E-4A7B-98A1-4CC731AB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0717-26F9-43EE-AEB7-813CC0E4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09A7-8A30-413E-9382-5B25BEBC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F3CD-7468-45BB-934D-71CDA9D5CB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hapters 35 and 3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0" y="5029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y Hanna, Stacey Zarko, Andy Kenderd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2514600" y="1523880"/>
            <a:ext cx="41911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0093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Impact"/>
              </a:rPr>
              <a:t>Unit 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0093"/>
                  </a:gs>
                  <a:gs pos="100000">
                    <a:srgbClr val="ff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iff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alibri"/>
              </a:rPr>
              <a:t>Increase pr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alibri"/>
              </a:rPr>
              <a:t>Decrease demand for imp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alibri"/>
              </a:rPr>
              <a:t>Price first, quantity sec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o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alibri"/>
              </a:rPr>
              <a:t>Work to shrink supp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alibri"/>
              </a:rPr>
              <a:t>Increase pr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alibri"/>
              </a:rPr>
              <a:t>Quantity first, price sec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2209680" y="533520"/>
            <a:ext cx="44960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Impact"/>
              </a:rPr>
              <a:t>Tariffs vs. Quota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ff66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 a quota profits from the price increases in the importing country go in the pockets of domestic sellers of produ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 a tariff, some of the profits go as tax revenue to the government of the importing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2209680" y="533520"/>
            <a:ext cx="44960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</a:rPr>
              <a:t>Tariffs vs. Quota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cc00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otas award its import licenses based on specific information (first come, first served based on past sales, political criteri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iff handicaps all foreign suppliers equally and rewards sales to the firms and nations that are the most efficient and can supply goods cheap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2209680" y="533520"/>
            <a:ext cx="44960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d60093"/>
                    </a:gs>
                  </a:gsLst>
                  <a:lin ang="5400000"/>
                </a:gradFill>
                <a:latin typeface="Impact"/>
              </a:rPr>
              <a:t>Tariffs vs. Quota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d60093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hange 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600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Calibri"/>
              </a:rPr>
              <a:t>States the price, in terms of one currency, at which another currency can be bou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ating Exchange 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600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Calibri"/>
              </a:rPr>
              <a:t>Exchange rate for every pair of currenc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600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Calibri"/>
              </a:rPr>
              <a:t>Exchange rate determined in a free market by the law of supply and dem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Calibri"/>
              </a:rPr>
              <a:t>Demand side comes from the want to buy a country’s goods and services, financial instruments  and physical ass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WordArt 4"/>
          <p:cNvSpPr txBox="1"/>
          <p:nvPr/>
        </p:nvSpPr>
        <p:spPr>
          <a:xfrm>
            <a:off x="2209680" y="533520"/>
            <a:ext cx="44960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0093"/>
                    </a:gs>
                    <a:gs pos="100000">
                      <a:srgbClr val="0066ff"/>
                    </a:gs>
                  </a:gsLst>
                  <a:lin ang="5400000"/>
                </a:gradFill>
                <a:latin typeface="Impact"/>
              </a:rPr>
              <a:t>Exchange Rat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0093"/>
                  </a:gs>
                  <a:gs pos="100000">
                    <a:srgbClr val="0066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ly side comes from the need to buy another nations currency in order to purchase its goods and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alibri"/>
              </a:rPr>
              <a:t>Sell curr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alibri"/>
              </a:rPr>
              <a:t>Increases supply on world market</a:t>
            </a:r>
            <a:r>
              <a:rPr b="0" lang="en-US" sz="2400" spc="-1" strike="noStrike">
                <a:solidFill>
                  <a:srgbClr val="0099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2209680" y="533520"/>
            <a:ext cx="44960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00cc00"/>
                    </a:gs>
                  </a:gsLst>
                  <a:lin ang="5400000"/>
                </a:gradFill>
                <a:latin typeface="Impact"/>
              </a:rPr>
              <a:t>Exchange Rat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00cc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reciation of Curr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alibri"/>
              </a:rPr>
              <a:t>Currency can buy more of another curr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Calibri"/>
              </a:rPr>
              <a:t>The price of a currency in terms of another incre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reciation of Curr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alibri"/>
              </a:rPr>
              <a:t>Currency can buy less of another curr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Calibri"/>
              </a:rPr>
              <a:t>The price of a currency in terms of another decre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685800" y="533520"/>
            <a:ext cx="78487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Impact"/>
              </a:rPr>
              <a:t>Appreciation vs. Depreciation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ff66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 Run: relative inflation 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alibri"/>
              </a:rPr>
              <a:t>Currency values will be appreciating in countries whose inflation rates are lower than the rest of the world’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Calibri"/>
              </a:rPr>
              <a:t>Buyers demand their goods, thus drive up currenc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alibri"/>
              </a:rPr>
              <a:t>High inflation rates in Country A causes the country to sell its currency to buy Country B’s foreign currency:  DEPRECI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traight Connector 4"/>
          <p:cNvSpPr/>
          <p:nvPr/>
        </p:nvSpPr>
        <p:spPr>
          <a:xfrm flipH="1">
            <a:off x="1750680" y="4191120"/>
            <a:ext cx="3240" cy="1752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1752480" y="5942160"/>
            <a:ext cx="17528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7"/>
          <p:cNvSpPr/>
          <p:nvPr/>
        </p:nvSpPr>
        <p:spPr>
          <a:xfrm flipH="1">
            <a:off x="5105520" y="4191120"/>
            <a:ext cx="1440" cy="1752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8"/>
          <p:cNvSpPr/>
          <p:nvPr/>
        </p:nvSpPr>
        <p:spPr>
          <a:xfrm>
            <a:off x="5106960" y="5942160"/>
            <a:ext cx="17524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685800" y="4267080"/>
            <a:ext cx="838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ice of A’s currency in terms of B’s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0"/>
          <p:cNvSpPr/>
          <p:nvPr/>
        </p:nvSpPr>
        <p:spPr>
          <a:xfrm>
            <a:off x="4114800" y="4267080"/>
            <a:ext cx="838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ice of B’s currency in terms of A’s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1"/>
          <p:cNvSpPr/>
          <p:nvPr/>
        </p:nvSpPr>
        <p:spPr>
          <a:xfrm>
            <a:off x="2438280" y="3809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2"/>
          <p:cNvSpPr/>
          <p:nvPr/>
        </p:nvSpPr>
        <p:spPr>
          <a:xfrm>
            <a:off x="5867280" y="3886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3"/>
          <p:cNvSpPr/>
          <p:nvPr/>
        </p:nvSpPr>
        <p:spPr>
          <a:xfrm>
            <a:off x="2286000" y="59436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# of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4"/>
          <p:cNvSpPr/>
          <p:nvPr/>
        </p:nvSpPr>
        <p:spPr>
          <a:xfrm>
            <a:off x="5638680" y="59436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# of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16"/>
          <p:cNvSpPr/>
          <p:nvPr/>
        </p:nvSpPr>
        <p:spPr>
          <a:xfrm>
            <a:off x="1828080" y="4267080"/>
            <a:ext cx="1523880" cy="1524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18"/>
          <p:cNvSpPr/>
          <p:nvPr/>
        </p:nvSpPr>
        <p:spPr>
          <a:xfrm flipV="1">
            <a:off x="1905120" y="4267080"/>
            <a:ext cx="1371600" cy="1524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22"/>
          <p:cNvSpPr/>
          <p:nvPr/>
        </p:nvSpPr>
        <p:spPr>
          <a:xfrm flipH="1">
            <a:off x="2438280" y="4572000"/>
            <a:ext cx="1067040" cy="1219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3"/>
          <p:cNvSpPr/>
          <p:nvPr/>
        </p:nvSpPr>
        <p:spPr>
          <a:xfrm>
            <a:off x="3352680" y="56386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4"/>
          <p:cNvSpPr/>
          <p:nvPr/>
        </p:nvSpPr>
        <p:spPr>
          <a:xfrm>
            <a:off x="32767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5"/>
          <p:cNvSpPr/>
          <p:nvPr/>
        </p:nvSpPr>
        <p:spPr>
          <a:xfrm>
            <a:off x="3505320" y="4343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Straight Arrow Connector 27"/>
          <p:cNvCxnSpPr/>
          <p:nvPr/>
        </p:nvCxnSpPr>
        <p:spPr>
          <a:xfrm>
            <a:off x="2894400" y="4723920"/>
            <a:ext cx="22932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7" name="Straight Connector 28"/>
          <p:cNvSpPr/>
          <p:nvPr/>
        </p:nvSpPr>
        <p:spPr>
          <a:xfrm>
            <a:off x="5333400" y="4267080"/>
            <a:ext cx="1523880" cy="1524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29"/>
          <p:cNvSpPr/>
          <p:nvPr/>
        </p:nvSpPr>
        <p:spPr>
          <a:xfrm flipV="1">
            <a:off x="5410080" y="4267080"/>
            <a:ext cx="1371600" cy="1524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0"/>
          <p:cNvSpPr/>
          <p:nvPr/>
        </p:nvSpPr>
        <p:spPr>
          <a:xfrm>
            <a:off x="6781680" y="5638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1"/>
          <p:cNvSpPr/>
          <p:nvPr/>
        </p:nvSpPr>
        <p:spPr>
          <a:xfrm>
            <a:off x="67057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33"/>
          <p:cNvSpPr/>
          <p:nvPr/>
        </p:nvSpPr>
        <p:spPr>
          <a:xfrm>
            <a:off x="5715000" y="4114800"/>
            <a:ext cx="1295280" cy="1371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4"/>
          <p:cNvSpPr/>
          <p:nvPr/>
        </p:nvSpPr>
        <p:spPr>
          <a:xfrm>
            <a:off x="6934320" y="52578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Arrow Connector 37"/>
          <p:cNvCxnSpPr/>
          <p:nvPr/>
        </p:nvCxnSpPr>
        <p:spPr>
          <a:xfrm flipV="1">
            <a:off x="6476040" y="5180760"/>
            <a:ext cx="22932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Box 38"/>
          <p:cNvSpPr/>
          <p:nvPr/>
        </p:nvSpPr>
        <p:spPr>
          <a:xfrm>
            <a:off x="1981080" y="6248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pr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9"/>
          <p:cNvSpPr/>
          <p:nvPr/>
        </p:nvSpPr>
        <p:spPr>
          <a:xfrm>
            <a:off x="5334120" y="624852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r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30"/>
          <p:cNvSpPr txBox="1"/>
          <p:nvPr/>
        </p:nvSpPr>
        <p:spPr>
          <a:xfrm>
            <a:off x="685800" y="533520"/>
            <a:ext cx="78487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</a:rPr>
              <a:t>Appreciation vs. Depreciation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cc00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ium Run: economic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Calibri"/>
              </a:rPr>
              <a:t>Economic boom sees Country A spending more on imports from Country 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Calibri"/>
              </a:rPr>
              <a:t>To do this, Country A buys Country B’s currency, making its demand incre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traight Connector 3"/>
          <p:cNvSpPr/>
          <p:nvPr/>
        </p:nvSpPr>
        <p:spPr>
          <a:xfrm flipH="1">
            <a:off x="2055960" y="4343400"/>
            <a:ext cx="2880" cy="1752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4"/>
          <p:cNvSpPr/>
          <p:nvPr/>
        </p:nvSpPr>
        <p:spPr>
          <a:xfrm>
            <a:off x="2057400" y="6094440"/>
            <a:ext cx="17524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traight Connector 5"/>
          <p:cNvSpPr/>
          <p:nvPr/>
        </p:nvSpPr>
        <p:spPr>
          <a:xfrm flipH="1">
            <a:off x="5409720" y="4343400"/>
            <a:ext cx="1800" cy="1752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traight Connector 6"/>
          <p:cNvSpPr/>
          <p:nvPr/>
        </p:nvSpPr>
        <p:spPr>
          <a:xfrm>
            <a:off x="5411880" y="6094440"/>
            <a:ext cx="17524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990720" y="4419720"/>
            <a:ext cx="838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ice of A’s currency in terms of B’s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4419720" y="4419720"/>
            <a:ext cx="838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ice of B’s currency in terms of A’s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274320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0"/>
          <p:cNvSpPr/>
          <p:nvPr/>
        </p:nvSpPr>
        <p:spPr>
          <a:xfrm>
            <a:off x="6172200" y="4038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1"/>
          <p:cNvSpPr/>
          <p:nvPr/>
        </p:nvSpPr>
        <p:spPr>
          <a:xfrm>
            <a:off x="2590920" y="60958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# of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5943600" y="60958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# of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13"/>
          <p:cNvSpPr/>
          <p:nvPr/>
        </p:nvSpPr>
        <p:spPr>
          <a:xfrm>
            <a:off x="2133000" y="4419720"/>
            <a:ext cx="1523880" cy="1523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4"/>
          <p:cNvSpPr/>
          <p:nvPr/>
        </p:nvSpPr>
        <p:spPr>
          <a:xfrm flipV="1">
            <a:off x="2209680" y="4419360"/>
            <a:ext cx="1371600" cy="1523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15"/>
          <p:cNvSpPr/>
          <p:nvPr/>
        </p:nvSpPr>
        <p:spPr>
          <a:xfrm flipH="1">
            <a:off x="2742840" y="4724280"/>
            <a:ext cx="1066680" cy="1219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6"/>
          <p:cNvSpPr/>
          <p:nvPr/>
        </p:nvSpPr>
        <p:spPr>
          <a:xfrm>
            <a:off x="3657600" y="5791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7"/>
          <p:cNvSpPr/>
          <p:nvPr/>
        </p:nvSpPr>
        <p:spPr>
          <a:xfrm>
            <a:off x="358128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8"/>
          <p:cNvSpPr/>
          <p:nvPr/>
        </p:nvSpPr>
        <p:spPr>
          <a:xfrm>
            <a:off x="3809880" y="4495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Straight Arrow Connector 19"/>
          <p:cNvCxnSpPr/>
          <p:nvPr/>
        </p:nvCxnSpPr>
        <p:spPr>
          <a:xfrm>
            <a:off x="3199320" y="4876560"/>
            <a:ext cx="22932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5" name="Straight Connector 20"/>
          <p:cNvSpPr/>
          <p:nvPr/>
        </p:nvSpPr>
        <p:spPr>
          <a:xfrm>
            <a:off x="5638680" y="4419720"/>
            <a:ext cx="1524240" cy="1523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1"/>
          <p:cNvSpPr/>
          <p:nvPr/>
        </p:nvSpPr>
        <p:spPr>
          <a:xfrm flipV="1">
            <a:off x="5715000" y="4419360"/>
            <a:ext cx="1371600" cy="1523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2"/>
          <p:cNvSpPr/>
          <p:nvPr/>
        </p:nvSpPr>
        <p:spPr>
          <a:xfrm>
            <a:off x="7086600" y="5791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3"/>
          <p:cNvSpPr/>
          <p:nvPr/>
        </p:nvSpPr>
        <p:spPr>
          <a:xfrm>
            <a:off x="701028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6019920" y="4267080"/>
            <a:ext cx="1295280" cy="1371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5"/>
          <p:cNvSpPr/>
          <p:nvPr/>
        </p:nvSpPr>
        <p:spPr>
          <a:xfrm>
            <a:off x="7238880" y="54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Straight Arrow Connector 26"/>
          <p:cNvCxnSpPr/>
          <p:nvPr/>
        </p:nvCxnSpPr>
        <p:spPr>
          <a:xfrm flipV="1">
            <a:off x="6780600" y="5333400"/>
            <a:ext cx="22932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2" name="TextBox 27"/>
          <p:cNvSpPr/>
          <p:nvPr/>
        </p:nvSpPr>
        <p:spPr>
          <a:xfrm>
            <a:off x="2286000" y="6400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pr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8"/>
          <p:cNvSpPr/>
          <p:nvPr/>
        </p:nvSpPr>
        <p:spPr>
          <a:xfrm>
            <a:off x="5638680" y="6400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r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WordArt 30"/>
          <p:cNvSpPr txBox="1"/>
          <p:nvPr/>
        </p:nvSpPr>
        <p:spPr>
          <a:xfrm>
            <a:off x="685800" y="533520"/>
            <a:ext cx="78487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d60093"/>
                    </a:gs>
                  </a:gsLst>
                  <a:lin ang="5400000"/>
                </a:gradFill>
                <a:latin typeface="Impact"/>
              </a:rPr>
              <a:t>Appreciation vs. Depreciation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d60093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rt Run: relative interest 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d600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Calibri"/>
              </a:rPr>
              <a:t>High interest rates in Country A causes high demand for their financial instruments, thus demand for their currency increases and supply of Country B’s currency decreases: APPREC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traight Connector 3"/>
          <p:cNvSpPr/>
          <p:nvPr/>
        </p:nvSpPr>
        <p:spPr>
          <a:xfrm flipH="1">
            <a:off x="2133720" y="4343400"/>
            <a:ext cx="1440" cy="1752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4"/>
          <p:cNvSpPr/>
          <p:nvPr/>
        </p:nvSpPr>
        <p:spPr>
          <a:xfrm>
            <a:off x="2135160" y="6094440"/>
            <a:ext cx="17524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1143000" y="4419720"/>
            <a:ext cx="838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ice of A’s currency in terms of B’s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2895480" y="4038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2666880" y="60958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# of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8"/>
          <p:cNvSpPr/>
          <p:nvPr/>
        </p:nvSpPr>
        <p:spPr>
          <a:xfrm>
            <a:off x="2361600" y="4419720"/>
            <a:ext cx="1523880" cy="1523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9"/>
          <p:cNvSpPr/>
          <p:nvPr/>
        </p:nvSpPr>
        <p:spPr>
          <a:xfrm flipV="1">
            <a:off x="2438280" y="4419360"/>
            <a:ext cx="1371600" cy="1523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0"/>
          <p:cNvSpPr/>
          <p:nvPr/>
        </p:nvSpPr>
        <p:spPr>
          <a:xfrm>
            <a:off x="3809880" y="5791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1"/>
          <p:cNvSpPr/>
          <p:nvPr/>
        </p:nvSpPr>
        <p:spPr>
          <a:xfrm>
            <a:off x="3733920" y="41148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2"/>
          <p:cNvSpPr/>
          <p:nvPr/>
        </p:nvSpPr>
        <p:spPr>
          <a:xfrm>
            <a:off x="2743200" y="4267080"/>
            <a:ext cx="1295280" cy="1371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3"/>
          <p:cNvSpPr/>
          <p:nvPr/>
        </p:nvSpPr>
        <p:spPr>
          <a:xfrm>
            <a:off x="3962520" y="5410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Straight Arrow Connector 14"/>
          <p:cNvCxnSpPr/>
          <p:nvPr/>
        </p:nvCxnSpPr>
        <p:spPr>
          <a:xfrm flipV="1">
            <a:off x="3504240" y="5333400"/>
            <a:ext cx="22932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8" name="TextBox 15"/>
          <p:cNvSpPr/>
          <p:nvPr/>
        </p:nvSpPr>
        <p:spPr>
          <a:xfrm>
            <a:off x="2362320" y="640080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r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16"/>
          <p:cNvSpPr/>
          <p:nvPr/>
        </p:nvSpPr>
        <p:spPr>
          <a:xfrm flipH="1">
            <a:off x="5789160" y="4343400"/>
            <a:ext cx="3240" cy="1752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17"/>
          <p:cNvSpPr/>
          <p:nvPr/>
        </p:nvSpPr>
        <p:spPr>
          <a:xfrm>
            <a:off x="5791320" y="6094440"/>
            <a:ext cx="17524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8"/>
          <p:cNvSpPr/>
          <p:nvPr/>
        </p:nvSpPr>
        <p:spPr>
          <a:xfrm>
            <a:off x="4724280" y="4419720"/>
            <a:ext cx="838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ice of B’s currency in terms of A’s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9"/>
          <p:cNvSpPr/>
          <p:nvPr/>
        </p:nvSpPr>
        <p:spPr>
          <a:xfrm>
            <a:off x="6477120" y="39625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0"/>
          <p:cNvSpPr/>
          <p:nvPr/>
        </p:nvSpPr>
        <p:spPr>
          <a:xfrm>
            <a:off x="6324480" y="60958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# of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21"/>
          <p:cNvSpPr/>
          <p:nvPr/>
        </p:nvSpPr>
        <p:spPr>
          <a:xfrm>
            <a:off x="5867280" y="4419720"/>
            <a:ext cx="1524240" cy="1523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22"/>
          <p:cNvSpPr/>
          <p:nvPr/>
        </p:nvSpPr>
        <p:spPr>
          <a:xfrm flipV="1">
            <a:off x="5943600" y="4419360"/>
            <a:ext cx="1371600" cy="1523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23"/>
          <p:cNvSpPr/>
          <p:nvPr/>
        </p:nvSpPr>
        <p:spPr>
          <a:xfrm flipH="1">
            <a:off x="6476760" y="4724280"/>
            <a:ext cx="1066680" cy="1219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4"/>
          <p:cNvSpPr/>
          <p:nvPr/>
        </p:nvSpPr>
        <p:spPr>
          <a:xfrm>
            <a:off x="7391520" y="5791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5"/>
          <p:cNvSpPr/>
          <p:nvPr/>
        </p:nvSpPr>
        <p:spPr>
          <a:xfrm>
            <a:off x="731520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6"/>
          <p:cNvSpPr/>
          <p:nvPr/>
        </p:nvSpPr>
        <p:spPr>
          <a:xfrm>
            <a:off x="7543800" y="4495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27"/>
          <p:cNvCxnSpPr/>
          <p:nvPr/>
        </p:nvCxnSpPr>
        <p:spPr>
          <a:xfrm>
            <a:off x="6933240" y="4876560"/>
            <a:ext cx="22932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1" name="TextBox 28"/>
          <p:cNvSpPr/>
          <p:nvPr/>
        </p:nvSpPr>
        <p:spPr>
          <a:xfrm>
            <a:off x="6019920" y="640080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pr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30"/>
          <p:cNvSpPr txBox="1"/>
          <p:nvPr/>
        </p:nvSpPr>
        <p:spPr>
          <a:xfrm>
            <a:off x="685800" y="533520"/>
            <a:ext cx="78487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0093"/>
                    </a:gs>
                    <a:gs pos="100000">
                      <a:srgbClr val="0066ff"/>
                    </a:gs>
                  </a:gsLst>
                  <a:lin ang="5400000"/>
                </a:gradFill>
                <a:latin typeface="Impact"/>
              </a:rPr>
              <a:t>Appreciation vs. Depreciation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0093"/>
                  </a:gs>
                  <a:gs pos="100000">
                    <a:srgbClr val="0066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.S. Rec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alibri"/>
              </a:rPr>
              <a:t>Import 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eign countries lose profit from their exp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alibri"/>
              </a:rPr>
              <a:t>Causes  recession in those c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WordArt 4"/>
          <p:cNvSpPr txBox="1"/>
          <p:nvPr/>
        </p:nvSpPr>
        <p:spPr>
          <a:xfrm>
            <a:off x="2743200" y="152280"/>
            <a:ext cx="3276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0066ff"/>
                    </a:gs>
                  </a:gsLst>
                  <a:lin ang="5400000"/>
                </a:gradFill>
                <a:latin typeface="Impact"/>
              </a:rPr>
              <a:t>US Related 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0066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5" name="WordArt 5"/>
          <p:cNvSpPr txBox="1"/>
          <p:nvPr/>
        </p:nvSpPr>
        <p:spPr>
          <a:xfrm>
            <a:off x="1905120" y="762120"/>
            <a:ext cx="4800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00cc00"/>
                    </a:gs>
                  </a:gsLst>
                  <a:lin ang="5400000"/>
                </a:gradFill>
                <a:latin typeface="Impact"/>
              </a:rPr>
              <a:t>Foreign Recess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00cc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8088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trade with other countr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alibri"/>
              </a:rPr>
              <a:t>Earth’s resources are not equally distributed across the pla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alibri"/>
              </a:rPr>
              <a:t>Every nation has to trade for what it la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alibri"/>
              </a:rPr>
              <a:t>Efficiency/special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alibri"/>
              </a:rPr>
              <a:t>US could produce just about everything but may not be as good at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alization</a:t>
            </a:r>
            <a:r>
              <a:rPr b="0" lang="en-US" sz="2400" spc="-1" strike="noStrike">
                <a:solidFill>
                  <a:srgbClr val="0066ff"/>
                </a:solidFill>
                <a:latin typeface="Calibri"/>
              </a:rPr>
              <a:t>: A country devotes its energies and resources to only a small proportion of the world’s productive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1295280" y="380880"/>
            <a:ext cx="6477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00cc00"/>
                    </a:gs>
                  </a:gsLst>
                  <a:lin ang="5400000"/>
                </a:gradFill>
                <a:latin typeface="Impact"/>
              </a:rPr>
              <a:t>Trade Between Nation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00cc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alibri"/>
              </a:rPr>
              <a:t>Mutual Ga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Calibri"/>
              </a:rPr>
              <a:t>‘’</a:t>
            </a:r>
            <a:r>
              <a:rPr b="0" lang="en-US" sz="2400" spc="-1" strike="noStrike">
                <a:solidFill>
                  <a:srgbClr val="00cc00"/>
                </a:solidFill>
                <a:latin typeface="Calibri"/>
              </a:rPr>
              <a:t>voluntary exchang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cc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Calibri"/>
              </a:rPr>
              <a:t>Redistributing products so that both parties end up holding more preferred combinations of goods than they held befo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alibri"/>
              </a:rPr>
              <a:t>In order for trade to take place, there has to be a reason to tr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Calibri"/>
              </a:rPr>
              <a:t>Exporting country must have something to sell in surplus (QD less than Q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Calibri"/>
              </a:rPr>
              <a:t>Importing country must need to buy the product that’s in surplus, putting them in a shortage (QS less than Q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1295280" y="380880"/>
            <a:ext cx="6477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Impact"/>
              </a:rPr>
              <a:t>Trade Between Nation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ff66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solute vs. Comparative Advan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alibri"/>
              </a:rPr>
              <a:t>Absolute: What a country has if in the production of a particular good it can produce that good using less resources than another country can- who is more efficie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alibri"/>
              </a:rPr>
              <a:t>A country can produce more with the same amount of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alibri"/>
              </a:rPr>
              <a:t>2 countries, 1 produ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219320" y="609480"/>
            <a:ext cx="66294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</a:rPr>
              <a:t>Comparative vs. Absolut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cc00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Calibri"/>
              </a:rPr>
              <a:t>Comparative: What a country has over another in the production of a particular good relative to other goods if it produces that good least inefficiently as compared to the other coun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Calibri"/>
              </a:rPr>
              <a:t>2 countries 2 go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Calibri"/>
              </a:rPr>
              <a:t>Determine which country has the lowest opportunity cost of producing one more of a g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1219320" y="609480"/>
            <a:ext cx="66294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d60093"/>
                    </a:gs>
                  </a:gsLst>
                  <a:lin ang="5400000"/>
                </a:gradFill>
                <a:latin typeface="Impact"/>
              </a:rPr>
              <a:t>Comparative vs. Absolut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d60093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the world uses comparative advantage rather than absolute advantage as the basis for trad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d600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Calibri"/>
              </a:rPr>
              <a:t>World output incre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Calibri"/>
              </a:rPr>
              <a:t>World can consume more because more is produced with effici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d600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Calibri"/>
              </a:rPr>
              <a:t>Consumption possibilities incr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d600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Calibri"/>
              </a:rPr>
              <a:t>Efficiency/production incr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d600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Calibri"/>
              </a:rPr>
              <a:t>Lower opportunity c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1219320" y="609480"/>
            <a:ext cx="66294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0093"/>
                    </a:gs>
                    <a:gs pos="100000">
                      <a:srgbClr val="0066ff"/>
                    </a:gs>
                  </a:gsLst>
                  <a:lin ang="5400000"/>
                </a:gradFill>
                <a:latin typeface="Impact"/>
              </a:rPr>
              <a:t>Comparative vs. Absolut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0093"/>
                  </a:gs>
                  <a:gs pos="100000">
                    <a:srgbClr val="0066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3"/>
          <p:cNvSpPr/>
          <p:nvPr/>
        </p:nvSpPr>
        <p:spPr>
          <a:xfrm>
            <a:off x="152280" y="15228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one hour of labo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304920" y="87804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alibri"/>
              </a:rPr>
              <a:t>Canada           15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alibri"/>
              </a:rPr>
              <a:t>Germany        10    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1447920" y="62064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s          Pl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152280" y="199224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portunity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304920" y="26305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alibri"/>
              </a:rPr>
              <a:t>Canada           .2    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alibri"/>
              </a:rPr>
              <a:t>Germany        .5        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838080" y="22971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more Car         1 more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10"/>
          <p:cNvSpPr/>
          <p:nvPr/>
        </p:nvSpPr>
        <p:spPr>
          <a:xfrm flipH="1">
            <a:off x="4951080" y="685800"/>
            <a:ext cx="3240" cy="198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11"/>
          <p:cNvSpPr/>
          <p:nvPr/>
        </p:nvSpPr>
        <p:spPr>
          <a:xfrm flipH="1">
            <a:off x="4952520" y="3429000"/>
            <a:ext cx="1800" cy="198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3"/>
          <p:cNvSpPr/>
          <p:nvPr/>
        </p:nvSpPr>
        <p:spPr>
          <a:xfrm>
            <a:off x="4952880" y="2666880"/>
            <a:ext cx="190512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14"/>
          <p:cNvSpPr/>
          <p:nvPr/>
        </p:nvSpPr>
        <p:spPr>
          <a:xfrm>
            <a:off x="4952880" y="5410080"/>
            <a:ext cx="190512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5"/>
          <p:cNvSpPr/>
          <p:nvPr/>
        </p:nvSpPr>
        <p:spPr>
          <a:xfrm>
            <a:off x="5486400" y="304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alibri"/>
              </a:rPr>
              <a:t>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6"/>
          <p:cNvSpPr/>
          <p:nvPr/>
        </p:nvSpPr>
        <p:spPr>
          <a:xfrm>
            <a:off x="5410080" y="2971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alibri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7"/>
          <p:cNvSpPr/>
          <p:nvPr/>
        </p:nvSpPr>
        <p:spPr>
          <a:xfrm rot="16200000">
            <a:off x="4375080" y="272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8"/>
          <p:cNvSpPr/>
          <p:nvPr/>
        </p:nvSpPr>
        <p:spPr>
          <a:xfrm rot="16200000">
            <a:off x="4375080" y="3016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9"/>
          <p:cNvSpPr/>
          <p:nvPr/>
        </p:nvSpPr>
        <p:spPr>
          <a:xfrm>
            <a:off x="6858000" y="5410080"/>
            <a:ext cx="8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0"/>
          <p:cNvSpPr/>
          <p:nvPr/>
        </p:nvSpPr>
        <p:spPr>
          <a:xfrm>
            <a:off x="6858000" y="2666880"/>
            <a:ext cx="8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1"/>
          <p:cNvSpPr/>
          <p:nvPr/>
        </p:nvSpPr>
        <p:spPr>
          <a:xfrm>
            <a:off x="4610160" y="762120"/>
            <a:ext cx="8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2"/>
          <p:cNvSpPr/>
          <p:nvPr/>
        </p:nvSpPr>
        <p:spPr>
          <a:xfrm>
            <a:off x="4572000" y="3505320"/>
            <a:ext cx="8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3"/>
          <p:cNvSpPr/>
          <p:nvPr/>
        </p:nvSpPr>
        <p:spPr>
          <a:xfrm>
            <a:off x="4572000" y="3809880"/>
            <a:ext cx="8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4"/>
          <p:cNvSpPr/>
          <p:nvPr/>
        </p:nvSpPr>
        <p:spPr>
          <a:xfrm>
            <a:off x="5524560" y="2666880"/>
            <a:ext cx="8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5"/>
          <p:cNvSpPr/>
          <p:nvPr/>
        </p:nvSpPr>
        <p:spPr>
          <a:xfrm>
            <a:off x="6019920" y="2666880"/>
            <a:ext cx="8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6"/>
          <p:cNvSpPr/>
          <p:nvPr/>
        </p:nvSpPr>
        <p:spPr>
          <a:xfrm>
            <a:off x="6019920" y="5410080"/>
            <a:ext cx="8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28"/>
          <p:cNvSpPr/>
          <p:nvPr/>
        </p:nvSpPr>
        <p:spPr>
          <a:xfrm>
            <a:off x="4952160" y="914400"/>
            <a:ext cx="685800" cy="175248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30"/>
          <p:cNvSpPr/>
          <p:nvPr/>
        </p:nvSpPr>
        <p:spPr>
          <a:xfrm>
            <a:off x="4952160" y="3962520"/>
            <a:ext cx="1143000" cy="144756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32"/>
          <p:cNvSpPr/>
          <p:nvPr/>
        </p:nvSpPr>
        <p:spPr>
          <a:xfrm>
            <a:off x="4952160" y="914400"/>
            <a:ext cx="1143000" cy="1752480"/>
          </a:xfrm>
          <a:prstGeom prst="line">
            <a:avLst/>
          </a:prstGeom>
          <a:ln w="936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33"/>
          <p:cNvSpPr/>
          <p:nvPr/>
        </p:nvSpPr>
        <p:spPr>
          <a:xfrm>
            <a:off x="4952160" y="3657600"/>
            <a:ext cx="1143000" cy="1752480"/>
          </a:xfrm>
          <a:prstGeom prst="line">
            <a:avLst/>
          </a:prstGeom>
          <a:ln w="9360">
            <a:solidFill>
              <a:srgbClr val="d6009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5"/>
          <p:cNvSpPr/>
          <p:nvPr/>
        </p:nvSpPr>
        <p:spPr>
          <a:xfrm>
            <a:off x="0" y="39625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solute advantage in cars? </a:t>
            </a:r>
            <a:r>
              <a:rPr b="0" lang="en-US" sz="1800" spc="-1" strike="noStrike">
                <a:solidFill>
                  <a:srgbClr val="0066ff"/>
                </a:solidFill>
                <a:latin typeface="Calibri"/>
              </a:rPr>
              <a:t>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solute advantage in planes? </a:t>
            </a:r>
            <a:r>
              <a:rPr b="0" lang="en-US" sz="1800" spc="-1" strike="noStrike">
                <a:solidFill>
                  <a:srgbClr val="d60093"/>
                </a:solidFill>
                <a:latin typeface="Calibri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arative advantage in cars? </a:t>
            </a:r>
            <a:r>
              <a:rPr b="0" lang="en-US" sz="1800" spc="-1" strike="noStrike">
                <a:solidFill>
                  <a:srgbClr val="0066ff"/>
                </a:solidFill>
                <a:latin typeface="Calibri"/>
              </a:rPr>
              <a:t>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arative advantage in planes? </a:t>
            </a:r>
            <a:r>
              <a:rPr b="0" lang="en-US" sz="1800" spc="-1" strike="noStrike">
                <a:solidFill>
                  <a:srgbClr val="d60093"/>
                </a:solidFill>
                <a:latin typeface="Calibri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6"/>
          <p:cNvSpPr/>
          <p:nvPr/>
        </p:nvSpPr>
        <p:spPr>
          <a:xfrm>
            <a:off x="152280" y="579132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national barter price is 1 plane = 3 c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country specializes in the product in which it has a comparative advant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7"/>
          <p:cNvSpPr/>
          <p:nvPr/>
        </p:nvSpPr>
        <p:spPr>
          <a:xfrm>
            <a:off x="5867280" y="60958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tted line = the consumption possibilities fron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3"/>
          <p:cNvSpPr/>
          <p:nvPr/>
        </p:nvSpPr>
        <p:spPr>
          <a:xfrm>
            <a:off x="76320" y="33336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alibri"/>
              </a:rPr>
              <a:t>Canada           15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alibri"/>
              </a:rPr>
              <a:t>Germany        10    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1219320" y="763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s          Pl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0" y="12193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country has four million hours split evenly between the production of both produ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76320" y="186840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alibri"/>
              </a:rPr>
              <a:t>Canada     30 mill          6 m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alibri"/>
              </a:rPr>
              <a:t>Germany  20 mill         10 m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      50 mill         16 m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219320" y="16113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s          Pl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0" y="316404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ada moves 500,000 to the production of the product of its comparative advantage and Germany moves 700,000 to the production of the product of its comparative advant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76320" y="395280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alibri"/>
              </a:rPr>
              <a:t>Canada      37.5 mill     4.5 m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alibri"/>
              </a:rPr>
              <a:t>Germany  13 mill         13.5 m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       50.5 mill     18 m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1219320" y="36972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s          Pl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Straight Arrow Connector 12"/>
          <p:cNvCxnSpPr/>
          <p:nvPr/>
        </p:nvCxnSpPr>
        <p:spPr>
          <a:xfrm flipV="1">
            <a:off x="606960" y="5258520"/>
            <a:ext cx="3960" cy="305640"/>
          </a:xfrm>
          <a:prstGeom prst="straightConnector1">
            <a:avLst/>
          </a:prstGeom>
          <a:ln w="9360">
            <a:solidFill>
              <a:srgbClr val="d60093"/>
            </a:solidFill>
            <a:miter/>
            <a:tailEnd len="med" type="arrow" w="med"/>
          </a:ln>
        </p:spPr>
      </p:cxnSp>
      <p:cxnSp>
        <p:nvCxnSpPr>
          <p:cNvPr id="92" name="Straight Arrow Connector 13"/>
          <p:cNvCxnSpPr/>
          <p:nvPr/>
        </p:nvCxnSpPr>
        <p:spPr>
          <a:xfrm flipV="1">
            <a:off x="608400" y="5637960"/>
            <a:ext cx="2520" cy="305640"/>
          </a:xfrm>
          <a:prstGeom prst="straightConnector1">
            <a:avLst/>
          </a:prstGeom>
          <a:ln w="9360">
            <a:solidFill>
              <a:srgbClr val="0066ff"/>
            </a:solidFill>
            <a:miter/>
            <a:tailEnd len="med" type="arrow" w="med"/>
          </a:ln>
        </p:spPr>
      </p:cxnSp>
      <p:sp>
        <p:nvSpPr>
          <p:cNvPr id="93" name="TextBox 14"/>
          <p:cNvSpPr/>
          <p:nvPr/>
        </p:nvSpPr>
        <p:spPr>
          <a:xfrm>
            <a:off x="762120" y="52689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ld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5"/>
          <p:cNvSpPr/>
          <p:nvPr/>
        </p:nvSpPr>
        <p:spPr>
          <a:xfrm>
            <a:off x="762120" y="5638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umption Pos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iff: tax on imp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ota: a legal limit on the amount of a good that may be impo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hey wor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alibri"/>
              </a:rPr>
              <a:t>Both restrict supplies coming in from abroad and drive up prices in the importing c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alibri"/>
              </a:rPr>
              <a:t>Any restriction of imports accomplished by a quota can also be accomplished by a tari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WordArt 4"/>
          <p:cNvSpPr txBox="1"/>
          <p:nvPr/>
        </p:nvSpPr>
        <p:spPr>
          <a:xfrm>
            <a:off x="2209680" y="533520"/>
            <a:ext cx="44960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00cc00"/>
                    </a:gs>
                  </a:gsLst>
                  <a:lin ang="5400000"/>
                </a:gradFill>
                <a:latin typeface="Impact"/>
              </a:rPr>
              <a:t>Tariffs vs. Quota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00cc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6:02:09Z</dcterms:created>
  <dc:creator>Sth_User</dc:creator>
  <dc:description/>
  <dc:language>en-US</dc:language>
  <cp:lastModifiedBy>jwussler</cp:lastModifiedBy>
  <dcterms:modified xsi:type="dcterms:W3CDTF">2009-01-27T15:14:11Z</dcterms:modified>
  <cp:revision>18</cp:revision>
  <dc:subject/>
  <dc:title>Unit 10</dc:title>
</cp:coreProperties>
</file>